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ED2-92CC-428C-AAE1-E96E299B8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661-C6EA-4F93-9088-B9DB5C80B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73A-7C55-49B7-8DB1-647904AA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9DF-1624-46F7-84B9-14C3A64D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DBD-A1D8-41CD-B1BD-1853CF5C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3FE-CC14-4251-9669-6D72DFED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CCC7-16F5-4FB2-A033-C9D0EBF8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7673-F463-4542-9C7B-CF9011BB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1B0-B042-4788-B08F-E97C758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938-F268-46E1-944B-8FBCED8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473F-9213-4941-9466-AEA0D72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F898-B6C6-4933-904A-1FB8915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272-ED20-49A9-BAA5-AFD1AB7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267-BD8A-4659-B8F8-2DFFF9F7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D5F7-663A-42AA-9F30-0DC755B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F7FE-6249-43C0-AB8C-0B4580A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9EC3-3299-4868-9AD4-4B4257E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EA44-5860-4E96-8C61-30A70BAE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1FD-7F3E-4E5D-981B-D2A076E2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8658-B32A-4FF1-AE9F-1C3FDA42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2BAA-CF62-4F62-827E-01D9D593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4501-326B-4198-AE4C-60B8BD0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DFE0-978A-42FC-A2B1-2D8DCAFE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AA0F-F8F9-4A92-82D3-49BE717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712-5EB9-4F55-8BE1-536FD04A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67F0-89FA-429E-BA33-A8B99EFD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CCCD-3986-417E-8295-7B35BF9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FAA8-FC4E-4600-9913-55E8E5D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9CB0-5537-49C9-B7D1-EAA8557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442B-19D9-4170-A375-748199B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FAE7-3D47-4003-9588-153516A0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B326-F616-487F-A07B-6A8B395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3C8B-F804-4109-82E1-342927C4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80D7-ECA2-4350-BD87-643A88E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E3CE-BF47-4967-A8FE-042593E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FA6-A8E7-4ABE-8184-87346C9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18C9-B43B-494D-A17F-836C793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B986C-9E00-4E3A-96E6-6C124896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6C51-F169-4051-8FE1-A4600C3C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BB8A-CF28-48B6-83C8-4EAD930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60A8-8C55-4AB0-9EED-88EA8FE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9896-9EBF-47DB-8C1D-686B1A8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5199-BB9A-4B33-AC81-778224E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F4E8-6E4A-4AB4-BBB3-29D9F3EE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61CE-D34B-4FF4-B55B-E73DC8E4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1FF-841C-49B9-8DDB-73E9CC4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C75-CCBC-4CE8-ADFB-B0C4FA74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113-5B54-4C22-A4C4-18549F2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D3C-E254-4162-AE85-54C451E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CA0-3FDC-4C5A-B706-566BA26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E737-A6CB-4A38-978D-7E30D737C3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DAE-507D-4BD8-893B-DE9E3255D98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F2A8-460D-4C5E-BEC4-E7A3C597F1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C35-5DC7-45DD-9417-D574C323CB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ussian Econom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kerdilaid Ho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ntral School, December 20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MS900074858[1].wav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cool\AppData\Local\Microsoft\Windows\Temporary Internet Files\Content.IE5\2IUTAM3Y\MP900390146[1].jpg"/>
          <p:cNvPicPr/>
          <p:nvPr/>
        </p:nvPicPr>
        <p:blipFill>
          <a:blip r:embed="rId2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7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19T21:48:53Z</dcterms:modified>
  <cp:revision>17</cp:revision>
  <dc:subject/>
  <dc:title>Economy</dc:title>
</cp:coreProperties>
</file>